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7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11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png" ContentType="image/pn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1D5-3766-4C6A-B828-BD09151A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BC5-6964-4420-843E-6698CCD1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75F3-E65D-4DDE-9531-8C8FD0DE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EE77-E8C1-437E-9CD9-31839DAB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417-AADE-482D-949D-06DB85AE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E75-0CB6-4AEC-A4DE-525A1974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9A5B-FA2D-4CC4-9B02-9539B169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8010-1506-4EF7-8872-7EC953C3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7208-80BA-4767-98D3-C7404157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16EC-3D8E-4290-AD93-DF386A13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F9A-0296-4871-8210-1329FF0C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B56F-F138-45B2-869C-2C625DD6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B709-3BDC-4910-98FA-2F41331AF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n00740a.wav" TargetMode="External"/><Relationship Id="rId2" Type="http://schemas.microsoft.com/office/2007/relationships/media" Target="file:///tmp/home/.config/libreoffice/4/user/gallery/sn00740a.wav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audio" Target="file:///tmp/home/.config/libreoffice/4/user/gallery/j0074880.wav" TargetMode="External"/><Relationship Id="rId7" Type="http://schemas.microsoft.com/office/2007/relationships/media" Target="file:///tmp/home/.config/libreoffice/4/user/gallery/j0074880.wav" TargetMode="External"/><Relationship Id="rId8" Type="http://schemas.openxmlformats.org/officeDocument/2006/relationships/image" Target="../media/image9.png"/><Relationship Id="rId9" Type="http://schemas.openxmlformats.org/officeDocument/2006/relationships/audio" Target="file:///tmp/home/.config/libreoffice/4/user/gallery/whoosh.wav" TargetMode="External"/><Relationship Id="rId10" Type="http://schemas.microsoft.com/office/2007/relationships/media" Target="file:///tmp/home/.config/libreoffice/4/user/gallery/whoosh.wav" TargetMode="External"/><Relationship Id="rId11" Type="http://schemas.openxmlformats.org/officeDocument/2006/relationships/image" Target="../media/image9.png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My Five Sens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indergar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gelia Perki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Can You Touch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3390840" cy="365760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2377800" cy="3124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2971800" cy="189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477120" y="4191120"/>
            <a:ext cx="2286000" cy="2006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095880" y="685800"/>
            <a:ext cx="2586240" cy="2193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971800" y="2133720"/>
            <a:ext cx="2971800" cy="2452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31800" y="3726000"/>
            <a:ext cx="18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35053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3244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43434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ar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743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6240600"/>
            <a:ext cx="1371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6172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60199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Can You Se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705720" cy="465624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3733920" cy="3714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318360" y="0"/>
            <a:ext cx="2825640" cy="4038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324480" y="3389400"/>
            <a:ext cx="2379960" cy="346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80880" y="4038480"/>
            <a:ext cx="1752840" cy="2610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429000" y="3733920"/>
            <a:ext cx="2271600" cy="2895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38480" y="380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gh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1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Can You Hea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2738520" cy="4537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2911320" cy="346860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1240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2895480" cy="2868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181480" y="3733920"/>
            <a:ext cx="2635200" cy="3124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777240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2971800" y="5562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2"/>
          <a:stretch/>
        </p:blipFill>
        <p:spPr>
          <a:xfrm>
            <a:off x="457200" y="3429000"/>
            <a:ext cx="1996920" cy="2895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3"/>
          <a:stretch/>
        </p:blipFill>
        <p:spPr>
          <a:xfrm>
            <a:off x="4876920" y="0"/>
            <a:ext cx="2984400" cy="3468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4"/>
          <a:stretch/>
        </p:blipFill>
        <p:spPr>
          <a:xfrm>
            <a:off x="7543800" y="2971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352680" y="320040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un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2000">
    <p:random/>
  </p:transition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63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  <p:seq>
              <p:cTn id="5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7"/>
                </p:tgtEl>
              </p:cMediaNode>
            </p:audio>
            <p:seq>
              <p:cTn id="6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  <p:seq>
              <p:cTn id="65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4037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Can You Smell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2521080" cy="325620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67080" cy="3436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3810240" cy="3219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85800" y="3930480"/>
            <a:ext cx="3352680" cy="2927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791320" y="3581280"/>
            <a:ext cx="2663640" cy="3276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33920" y="29718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mel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Can You Tast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956040" cy="346896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3352680" cy="2914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3505320" cy="2105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2719440" cy="3048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28954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w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58672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u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327672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l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553080" y="4191120"/>
            <a:ext cx="1828800" cy="1552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486400" y="5851440"/>
            <a:ext cx="2666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7913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it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1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6T23:30:44Z</dcterms:created>
  <dc:creator>Angelia Perkins </dc:creator>
  <dc:description/>
  <dc:language>en-US</dc:language>
  <cp:lastModifiedBy>ttt</cp:lastModifiedBy>
  <dcterms:modified xsi:type="dcterms:W3CDTF">2000-01-31T02:32:19Z</dcterms:modified>
  <cp:revision>8</cp:revision>
  <dc:subject/>
  <dc:title>My Five Senses</dc:title>
</cp:coreProperties>
</file>